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08FC-38D9-450C-8A23-31E2C0026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0276-EF3F-47AB-A902-1A9E818C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2F7F-E9A6-46DA-825F-7D1C136B3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1DE2-0885-4056-AE6C-5DBB0F22E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4E4B-E79C-4735-874F-08E04786D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F9F1D-969A-4913-BB5E-5C0A0607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4C9A-3255-4B89-AA5C-06B558AE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CE6E-F960-4C24-A0A4-4DAD1B9DF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0B1FE-8B7A-4588-9C7E-186C52FD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C5F4-7268-49D7-B2A2-9015892D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1994-7B73-4D06-9331-B4CA26A5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1BA4-0794-4D82-B093-92F8A36D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06E60-144B-43D8-9A9F-596B7831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1D0C-80EE-4D26-ACF1-C2EFB697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B33E-4395-4AC0-A492-6309CD94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9879-A76F-4118-907E-AC509AC2D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54094-DD91-4874-8824-0487F95B8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1D56-ADE5-4F6E-8987-7F171A88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D1B1-95AC-4F6B-926C-471650C03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A13D-A7CD-4024-9654-69BED9AA1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A950-CBDA-4EE5-BBC6-B767698A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255C-D613-4509-8848-04CF86C8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1D28-9865-4D4E-8C50-7CD5A245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1848-2F82-4CCE-A454-0DC2D5C1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2819520" y="4800600"/>
              <a:ext cx="6237000" cy="2048040"/>
              <a:chOff x="2819520" y="4800600"/>
              <a:chExt cx="6237000" cy="2048040"/>
            </a:xfrm>
          </p:grpSpPr>
          <p:grpSp>
            <p:nvGrpSpPr>
              <p:cNvPr id="3" name=""/>
              <p:cNvGrpSpPr/>
              <p:nvPr/>
            </p:nvGrpSpPr>
            <p:grpSpPr>
              <a:xfrm>
                <a:off x="3600360" y="6245280"/>
                <a:ext cx="1013040" cy="598320"/>
                <a:chOff x="3600360" y="6245280"/>
                <a:chExt cx="1013040" cy="5983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3600360" y="6245280"/>
                  <a:ext cx="1013040" cy="59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fdfd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3673440" y="6283440"/>
                  <a:ext cx="862200" cy="52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fdfdf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3716280" y="6316560"/>
                  <a:ext cx="795240" cy="47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7e7e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3759120" y="6345360"/>
                  <a:ext cx="704880" cy="4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fdfd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786120" y="6357960"/>
                  <a:ext cx="65556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fefe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3868560" y="6391440"/>
                  <a:ext cx="48600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fdfd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3930480" y="6438960"/>
                  <a:ext cx="360360" cy="21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7e7e7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4035600" y="6504120"/>
                  <a:ext cx="142560" cy="9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7e7e7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" name=""/>
              <p:cNvSpPr/>
              <p:nvPr/>
            </p:nvSpPr>
            <p:spPr>
              <a:xfrm>
                <a:off x="5851440" y="6048360"/>
                <a:ext cx="84456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5915160" y="6095880"/>
                <a:ext cx="71748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004080" y="6146640"/>
                <a:ext cx="54612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067440" y="6184800"/>
                <a:ext cx="41580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6121440" y="6226200"/>
                <a:ext cx="30492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675400" y="5897520"/>
                <a:ext cx="60804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65840" y="6620040"/>
                <a:ext cx="70488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5599080" y="6200640"/>
                <a:ext cx="14148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5665680" y="5945040"/>
                <a:ext cx="119088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6408720" y="5907240"/>
                <a:ext cx="15228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6627960" y="6429240"/>
                <a:ext cx="285480" cy="209520"/>
              </a:xfrm>
              <a:custGeom>
                <a:avLst/>
                <a:gdLst/>
                <a:ahLst/>
                <a:rect l="l" t="t" r="r" b="b"/>
                <a:pathLst>
                  <a:path w="179" h="132">
                    <a:moveTo>
                      <a:pt x="0" y="132"/>
                    </a:moveTo>
                    <a:lnTo>
                      <a:pt x="29" y="132"/>
                    </a:lnTo>
                    <a:lnTo>
                      <a:pt x="77" y="108"/>
                    </a:lnTo>
                    <a:lnTo>
                      <a:pt x="119" y="78"/>
                    </a:lnTo>
                    <a:lnTo>
                      <a:pt x="155" y="48"/>
                    </a:lnTo>
                    <a:lnTo>
                      <a:pt x="179" y="12"/>
                    </a:lnTo>
                    <a:lnTo>
                      <a:pt x="173" y="6"/>
                    </a:lnTo>
                    <a:lnTo>
                      <a:pt x="167" y="0"/>
                    </a:lnTo>
                    <a:lnTo>
                      <a:pt x="137" y="42"/>
                    </a:lnTo>
                    <a:lnTo>
                      <a:pt x="101" y="78"/>
                    </a:lnTo>
                    <a:lnTo>
                      <a:pt x="53" y="108"/>
                    </a:lnTo>
                    <a:lnTo>
                      <a:pt x="0" y="132"/>
                    </a:lnTo>
                    <a:lnTo>
                      <a:pt x="0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6f6f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207120" y="6267600"/>
                <a:ext cx="13320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7216920" y="5727600"/>
                <a:ext cx="822240" cy="506520"/>
                <a:chOff x="7216920" y="5727600"/>
                <a:chExt cx="822240" cy="5065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7216920" y="5727600"/>
                  <a:ext cx="822240" cy="50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fefe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7267680" y="5762520"/>
                  <a:ext cx="707760" cy="43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7318440" y="5794200"/>
                  <a:ext cx="612720" cy="370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fefe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388280" y="5838840"/>
                  <a:ext cx="473040" cy="280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fefe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7445520" y="5870520"/>
                  <a:ext cx="352440" cy="220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fefe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7521480" y="5918040"/>
                  <a:ext cx="200160" cy="128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6f6f6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8BDE-3139-45C5-AEE5-E72D794A888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4bc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6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2819520" y="4800600"/>
              <a:ext cx="6237000" cy="2048040"/>
              <a:chOff x="2819520" y="4800600"/>
              <a:chExt cx="6237000" cy="2048040"/>
            </a:xfrm>
          </p:grpSpPr>
          <p:grpSp>
            <p:nvGrpSpPr>
              <p:cNvPr id="108" name=""/>
              <p:cNvGrpSpPr/>
              <p:nvPr/>
            </p:nvGrpSpPr>
            <p:grpSpPr>
              <a:xfrm>
                <a:off x="3600360" y="6245280"/>
                <a:ext cx="1013040" cy="598320"/>
                <a:chOff x="3600360" y="6245280"/>
                <a:chExt cx="1013040" cy="59832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3600360" y="6245280"/>
                  <a:ext cx="1013040" cy="59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fdfd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3673440" y="6283440"/>
                  <a:ext cx="862200" cy="52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fdfdf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716280" y="6316560"/>
                  <a:ext cx="795240" cy="47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7e7e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759120" y="6345360"/>
                  <a:ext cx="704880" cy="4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fdfd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786120" y="6357960"/>
                  <a:ext cx="65556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fefe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868560" y="6391440"/>
                  <a:ext cx="48600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fdfd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930480" y="6438960"/>
                  <a:ext cx="360360" cy="21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7e7e7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035600" y="6504120"/>
                  <a:ext cx="142560" cy="9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7e7e7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5851440" y="6048360"/>
                <a:ext cx="84456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915160" y="6095880"/>
                <a:ext cx="71748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004080" y="6146640"/>
                <a:ext cx="54612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067440" y="6184800"/>
                <a:ext cx="41580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121440" y="6226200"/>
                <a:ext cx="30492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675400" y="5897520"/>
                <a:ext cx="60804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865840" y="6620040"/>
                <a:ext cx="70488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599080" y="6200640"/>
                <a:ext cx="14148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665680" y="5945040"/>
                <a:ext cx="119088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408720" y="5907240"/>
                <a:ext cx="15228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627960" y="6429240"/>
                <a:ext cx="285480" cy="209520"/>
              </a:xfrm>
              <a:custGeom>
                <a:avLst/>
                <a:gdLst/>
                <a:ahLst/>
                <a:rect l="l" t="t" r="r" b="b"/>
                <a:pathLst>
                  <a:path w="179" h="132">
                    <a:moveTo>
                      <a:pt x="0" y="132"/>
                    </a:moveTo>
                    <a:lnTo>
                      <a:pt x="29" y="132"/>
                    </a:lnTo>
                    <a:lnTo>
                      <a:pt x="77" y="108"/>
                    </a:lnTo>
                    <a:lnTo>
                      <a:pt x="119" y="78"/>
                    </a:lnTo>
                    <a:lnTo>
                      <a:pt x="155" y="48"/>
                    </a:lnTo>
                    <a:lnTo>
                      <a:pt x="179" y="12"/>
                    </a:lnTo>
                    <a:lnTo>
                      <a:pt x="173" y="6"/>
                    </a:lnTo>
                    <a:lnTo>
                      <a:pt x="167" y="0"/>
                    </a:lnTo>
                    <a:lnTo>
                      <a:pt x="137" y="42"/>
                    </a:lnTo>
                    <a:lnTo>
                      <a:pt x="101" y="78"/>
                    </a:lnTo>
                    <a:lnTo>
                      <a:pt x="53" y="108"/>
                    </a:lnTo>
                    <a:lnTo>
                      <a:pt x="0" y="132"/>
                    </a:lnTo>
                    <a:lnTo>
                      <a:pt x="0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6f6f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207120" y="6267600"/>
                <a:ext cx="13320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" name=""/>
              <p:cNvGrpSpPr/>
              <p:nvPr/>
            </p:nvGrpSpPr>
            <p:grpSpPr>
              <a:xfrm>
                <a:off x="7216920" y="5727600"/>
                <a:ext cx="822240" cy="506520"/>
                <a:chOff x="7216920" y="5727600"/>
                <a:chExt cx="822240" cy="50652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7216920" y="5727600"/>
                  <a:ext cx="822240" cy="50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fefe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7267680" y="5762520"/>
                  <a:ext cx="707760" cy="43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7318440" y="5794200"/>
                  <a:ext cx="612720" cy="370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fefe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7388280" y="5838840"/>
                  <a:ext cx="473040" cy="280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fefe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445520" y="5870520"/>
                  <a:ext cx="352440" cy="220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fefe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521480" y="5918040"/>
                  <a:ext cx="200160" cy="128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6f6f6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2717-3267-41B0-B7DD-A2B667E00C1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4bcc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arm-up:  MSA Review Day 10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723960" y="3429000"/>
            <a:ext cx="78105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 a triangle with a 3cm base, a 9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gle, and a 4 cm he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848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bjective:  Students will use the Pythagorean Theorem to solve right triangles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53080" y="5057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95280" y="4191120"/>
            <a:ext cx="3048120" cy="1676160"/>
          </a:xfrm>
          <a:prstGeom prst="rtTriangl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715000" y="3809880"/>
            <a:ext cx="380880" cy="762120"/>
          </a:xfrm>
          <a:prstGeom prst="rtTriangl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277920"/>
            <a:ext cx="86868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:  Students will use the Pythagorean Theorem to solve right triangles.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Pythagorean Theore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applies to right triang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Le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the sides of the triangl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Hypotenu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longest s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ythagorean Theorem is the relationship between the legs of a right triangle, and the hypotenus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038480" y="3886200"/>
            <a:ext cx="2819520" cy="2057400"/>
          </a:xfrm>
          <a:prstGeom prst="rtTriangl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200400" y="4267080"/>
            <a:ext cx="4038120" cy="2120760"/>
            <a:chOff x="3200400" y="4267080"/>
            <a:chExt cx="4038120" cy="2120760"/>
          </a:xfrm>
        </p:grpSpPr>
        <p:sp>
          <p:nvSpPr>
            <p:cNvPr id="220" name=""/>
            <p:cNvSpPr/>
            <p:nvPr/>
          </p:nvSpPr>
          <p:spPr>
            <a:xfrm>
              <a:off x="3200400" y="457164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aramond"/>
                </a:rPr>
                <a:t>le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76560" y="586728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aramond"/>
                </a:rPr>
                <a:t>le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181480" y="4267080"/>
              <a:ext cx="2057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aramond"/>
                </a:rPr>
                <a:t>hypotenu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9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9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9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the formula (theorem) you can use to find the length of a hypotenuse when you know the length of the leg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52280" y="304920"/>
            <a:ext cx="861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ve:  Students will use the Pythagorean Theorem to solve right triang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ve:  Students will use the Pythagorean Theorem to solve right triangles.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ding a missing s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itute the numbers into the theor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the equation for the missing vari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.  a = 21m, b = 28m, c = 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838080" y="3352680"/>
            <a:ext cx="2667240" cy="2532600"/>
            <a:chOff x="838080" y="3352680"/>
            <a:chExt cx="2667240" cy="2532600"/>
          </a:xfrm>
        </p:grpSpPr>
        <p:sp>
          <p:nvSpPr>
            <p:cNvPr id="228" name=""/>
            <p:cNvSpPr/>
            <p:nvPr/>
          </p:nvSpPr>
          <p:spPr>
            <a:xfrm>
              <a:off x="1523880" y="3352680"/>
              <a:ext cx="1828800" cy="205740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8080" y="4267080"/>
              <a:ext cx="762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15 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38280" y="4038480"/>
              <a:ext cx="106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25 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209680" y="54864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ve:  Students will use the Pythagorean Theorem to solve right triangles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the missing side.  Show all wor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___, b = 9 m, c = 19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80880" y="2286000"/>
            <a:ext cx="3429000" cy="2440800"/>
            <a:chOff x="380880" y="2286000"/>
            <a:chExt cx="3429000" cy="2440800"/>
          </a:xfrm>
        </p:grpSpPr>
        <p:sp>
          <p:nvSpPr>
            <p:cNvPr id="235" name=""/>
            <p:cNvSpPr/>
            <p:nvPr/>
          </p:nvSpPr>
          <p:spPr>
            <a:xfrm>
              <a:off x="914040" y="2286000"/>
              <a:ext cx="2895840" cy="1828440"/>
            </a:xfrm>
            <a:prstGeom prst="rtTriangle">
              <a:avLst/>
            </a:prstGeom>
            <a:solidFill>
              <a:srgbClr val="0066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81080" y="259056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17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04760" y="42670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14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80880" y="30477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9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ve:  Students will use the Pythagorean Theorem to solve right triangles.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ving a Right Triangl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534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itute the values into the theorem and see if it makes a true stat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 12 km, 16 km, 20 k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 7 cm, 8cm, 15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9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9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9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5820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ve:  Students will use the Pythagorean Theorem to solve right triangles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this a right triangle?  Show work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80880" y="2133360"/>
            <a:ext cx="830592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 m, 25 m, 34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 in, 21 in, 60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9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9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010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heet:  Finding the hypoten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6:00:11Z</dcterms:created>
  <dc:creator>ccps</dc:creator>
  <dc:description/>
  <dc:language>en-US</dc:language>
  <cp:lastModifiedBy>Brian McGrath</cp:lastModifiedBy>
  <dcterms:modified xsi:type="dcterms:W3CDTF">2011-02-25T01:23:05Z</dcterms:modified>
  <cp:revision>10</cp:revision>
  <dc:subject/>
  <dc:title>Obj 9.3:  To use the Pythagorean Theorem to solve right triangles.</dc:title>
</cp:coreProperties>
</file>